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D42-6ABF-4F9F-8DC1-AE5194C9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3A0-D392-4C9F-9371-4DF7181F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076-9459-46DA-904A-9CC26CA9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AB2-58BD-4AF0-AE30-EA537DE8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DECF-7D8C-40FA-A695-66C689EE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F94-3E98-4E28-8598-5A967C0E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C4F-328A-4706-A033-CDE126D6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FADE-0736-4B05-9A55-71BAF0A7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F03B-056D-4B88-A94A-F3EC021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64C4-2774-47E8-8B70-312ED4A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E0BC-25F9-4D21-9322-20EA64F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49B-4681-46D5-B145-CCC58CB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6374-D6CB-4F3F-A601-59E0117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78F9-8692-41BD-94A7-033E2BFD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52A8-254E-40A3-84FE-58E2845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6717-7D8E-4954-A37F-6BE7587E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0919-4BD8-4FD0-A15C-BCB8F8DB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625-1455-4220-B977-1BD5D206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D39-EFBF-4040-A4AC-093B34E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0D2-D467-4F8D-9610-DD691575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7B1-2C6A-4B38-8C37-6C305926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02B-1443-479E-945F-BDB4E8E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663-7796-43F9-A864-7680AC3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425-B826-4ED6-A2D8-764BD3D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4D6A-6213-4DD5-A4A3-F6EC250C31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D16D-4108-4801-B61E-18D7FB03D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enesis 40-4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ew (Last Study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Favored By Father, Jac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’s Dreams of Grea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rother’s Envy &amp; Hat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Sold Into Slavery – 37:12-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Is Framed By Potiphar’s Wife – 39: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In P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Interprets Dreams In Prison – 40:1-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utler Rest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ker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roah’s Dreams – 41:1-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Years of Plenty Followed By Seven Years of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oday’s Les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 Exalted To Second In Command – 41:46-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min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’s Brothers Come to Buy Grain 42:1-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ph’s Earlier Dreams Come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9:17:25Z</dcterms:created>
  <dc:creator>Terry W. Benton</dc:creator>
  <dc:description/>
  <dc:language>en-US</dc:language>
  <cp:lastModifiedBy>Terry W. Benton</cp:lastModifiedBy>
  <dcterms:modified xsi:type="dcterms:W3CDTF">2004-09-18T19:28:27Z</dcterms:modified>
  <cp:revision>1</cp:revision>
  <dc:subject/>
  <dc:title>Genesis 40-42</dc:title>
</cp:coreProperties>
</file>